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196-15AD-468A-92D1-870B549C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D5B-AF17-4F7E-A5B2-482DAD3B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004-D0FA-4681-ABC8-3025D884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7012-50A7-4988-B1B9-12A47DBB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1E36-64AF-45CC-8945-508E06B7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C8EC-5C0E-4105-87A7-056CBDC2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40E6-4334-4408-8062-8240E5EA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11F3-6BC1-4047-B338-9E6FA3E5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05A1-9101-4D8B-9BB6-DE1B654C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D42B-C588-4A8C-B501-BC0A9979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34BE-5C32-4D94-8DA0-60905AF5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F02-38FC-457B-B233-E443A0BD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AE44-1083-4FBC-9A31-10336169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7AF1-BC51-4975-A565-69453BA4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9F0A-E889-402B-A35D-952A0A86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2BFD-27F5-4681-8D31-275DBE4E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5B76-A028-42B7-9F85-03F6A8CF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4555-0837-49D9-BBAE-1C93CEBF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977-AFD3-4DF2-9D93-AFF694F6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7793-D6CD-4F23-9706-6DDE1318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1DB-61D9-4213-911A-372B1B72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A24-C8AF-40F3-83FF-97AF9558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FAC-BDE4-4045-AF19-6962F788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9A7-78A5-4B11-9BCE-337B7CE7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4744-74E8-4C31-99D7-A342387C96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0D0E-CF26-4418-B0A0-29B4FB30D8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s.kohler.com/onlinecatalog/detail.jsp?from=thumb&amp;frm=null&amp;module=Toilets&amp;item=6242702&amp;prod_num=3360-AF&amp;section=2&amp;category=13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homecenter.com/product_details.asp?sid=1&amp;itemNumber=7&amp;propList=productID,&amp;productID=American+Standard+2258%2E125%2E020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dougstubs.com/Bathroom/____Showers/Jet_Set_II_1098.aspx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showerbuddy.com/Showroom/Bathroom_Plumbing_Fixtures/Shower_Stalls/Sterling_Shower_Stall/sterling_shower_stall.html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mericanstandard-us.com/products/productDetail.aspx?area=bath&amp;cat=8&amp;col=&amp;prodID=1010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americanstandard-us.com/products/productDetail.aspx?area=bath&amp;cat=8&amp;col=&amp;prodID=1270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hirlpoolbathtubs.com/products/mansfield/swirl-way_whirlpool_tubs/whirlpool_castille.asp" TargetMode="External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omforthouse.com/pres.html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odernbathroom.com/vanity-best-sellers_68.html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qualitybath.com/product~ID~26134.htm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www.qualitybath.com/product~ID~5736.htm" TargetMode="External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awfootsupply.com/product675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clawfootsupply.com/product2276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clawfootsupply.com/product2295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tubz.com/porcher_pedestal_and_console_sinks.htm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tubz.com/decolav_pedestal_sinks.htm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www.tubz.com/derose_design_bathroom_pedestal_sink_.htm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ubz.com/glass-above-counter-vessel-bathroom-sinks.htm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.02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throo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501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r mou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ll m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Revival(R) one-piece elongated toil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2767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05320"/>
            <a:ext cx="1905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ow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_________Show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htub with a shower head above that may be in a fixed position on wall, __________ or ___________. Some showers may have multiple heads at vari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Old fashion antique style tub and shower sets"/>
          <p:cNvPicPr/>
          <p:nvPr/>
        </p:nvPicPr>
        <p:blipFill>
          <a:blip r:embed="rId1"/>
          <a:stretch/>
        </p:blipFill>
        <p:spPr>
          <a:xfrm>
            <a:off x="6324480" y="4114800"/>
            <a:ext cx="2333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tall Show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__________ with a do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JetSet II Show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89548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141001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2743200"/>
            <a:ext cx="2257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b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may have ball-and-claw for Victorian lo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LeBijou Clawfoot tub"/>
          <p:cNvPicPr/>
          <p:nvPr/>
        </p:nvPicPr>
        <p:blipFill>
          <a:blip r:embed="rId1"/>
          <a:stretch/>
        </p:blipFill>
        <p:spPr>
          <a:xfrm>
            <a:off x="914400" y="3276720"/>
            <a:ext cx="2362320" cy="1571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Kohler's Birthday Bath"/>
          <p:cNvPicPr/>
          <p:nvPr/>
        </p:nvPicPr>
        <p:blipFill>
          <a:blip r:embed="rId2"/>
          <a:stretch/>
        </p:blipFill>
        <p:spPr>
          <a:xfrm>
            <a:off x="5410080" y="3505320"/>
            <a:ext cx="28195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__________ tub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may be round, rectangular, square, oval. Surrounded by ________ walls, may be sunken into floor or built on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4648320"/>
            <a:ext cx="210492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191120"/>
            <a:ext cx="24382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hirlpool tub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cludes water j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819520"/>
            <a:ext cx="3543480" cy="3324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novative Bat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wel Warm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romo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 j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Warmrails  DVC / DVB / DVS Deluxe Vauxhall Heated Towel Stand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4191120"/>
            <a:ext cx="1076400" cy="1371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410080" y="4038480"/>
            <a:ext cx="24768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binets and Vaniti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 cabinet in a bathroom that conceals pipes, provides counter space and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191120"/>
            <a:ext cx="1905120" cy="1571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Fairmont 170-V24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38480" y="43434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Fairmont Cottage V24 Bathroom Vanit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3733920"/>
            <a:ext cx="1447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iversal Design in Bat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Wide doorways (____”) and extra floor space (usually 5’x5’ turning radius for wheelchai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_______ bars near toilet and tu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________ toilet se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_____ style sink and shower contr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Lower cabin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_________mirr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 No-sill, ________-less shower stall with rolling or fixed chai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408640" y="2743200"/>
            <a:ext cx="373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Bat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________/powder room - sink &amp; toilet on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 bath - sink, toilet, ______________/show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 bath – sink, toilet, shower with no tu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ter bath – _______ bath located as part of master bedro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This universal design bath has a specially designed door that allows wheelchair users to slide into the tub with minimum effort."/>
          <p:cNvPicPr/>
          <p:nvPr/>
        </p:nvPicPr>
        <p:blipFill>
          <a:blip r:embed="rId1"/>
          <a:stretch/>
        </p:blipFill>
        <p:spPr>
          <a:xfrm>
            <a:off x="914400" y="2286000"/>
            <a:ext cx="2971800" cy="3200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http://www.mcnkitchens.com/Disabled.htm"/>
          <p:cNvPicPr/>
          <p:nvPr/>
        </p:nvPicPr>
        <p:blipFill>
          <a:blip r:embed="rId2"/>
          <a:stretch/>
        </p:blipFill>
        <p:spPr>
          <a:xfrm>
            <a:off x="5029200" y="2514600"/>
            <a:ext cx="3048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b bars with hand held show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291456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using and Interiors, pages 519-52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lowes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homedepot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nkba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tubz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hgtv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bhg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aarp.o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right ©2007, ABCD, All rights reserv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throom Consid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e near existing plumbing lines to lower construction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ition bathrooms to provide sound barriers between ________ and ___________ar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how many _________ will use the b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space for safe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and measure the layout carefully as it is ______________ and expensive to move fix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local __________ codes for minimum requirements needed for the b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athroom Sinks/Lavatories/Wash Basi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_____________ sin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has open space beneath sink, can make the room appear 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Gerber West Point Wall-Hung Lavato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267080"/>
            <a:ext cx="175284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Pire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86200" y="434340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U-Shaped China Basin With Round Bow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7120" y="4495680"/>
            <a:ext cx="163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destal Sin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_____________ sin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upported by a free-standing base, often artfully shaped or appears as a 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Pedestal Sinks"/>
          <p:cNvPicPr/>
          <p:nvPr/>
        </p:nvPicPr>
        <p:blipFill>
          <a:blip r:embed="rId1"/>
          <a:stretch/>
        </p:blipFill>
        <p:spPr>
          <a:xfrm>
            <a:off x="380880" y="3733920"/>
            <a:ext cx="1600200" cy="1676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3657600"/>
            <a:ext cx="1047960" cy="1886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3429000"/>
            <a:ext cx="1295280" cy="2085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10280" y="3276720"/>
            <a:ext cx="121932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_____________ Sin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nset Sin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et into the countertop, cabinet below adds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365760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181480" y="3657600"/>
            <a:ext cx="22669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________the coun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bove-the-coun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looks like a decorative _____________ set on a counter. Plumbing is be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Glass Above Counter Sin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4114800"/>
            <a:ext cx="2209680" cy="2133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Paris Salon Vessel Sink"/>
          <p:cNvPicPr/>
          <p:nvPr/>
        </p:nvPicPr>
        <p:blipFill>
          <a:blip r:embed="rId3"/>
          <a:stretch/>
        </p:blipFill>
        <p:spPr>
          <a:xfrm>
            <a:off x="4800600" y="4191120"/>
            <a:ext cx="3143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__________/Water Clos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mounted on wall or 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ltra _______ flush (ULF) toilets may be required by local building codes, use no more than _________gal as compared to older models which may use up to 5 gal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6:16:20Z</dcterms:created>
  <dc:creator>s.brooks</dc:creator>
  <dc:description/>
  <dc:language>en-US</dc:language>
  <cp:lastModifiedBy>s.brooks</cp:lastModifiedBy>
  <dcterms:modified xsi:type="dcterms:W3CDTF">2008-11-14T17:04:08Z</dcterms:modified>
  <cp:revision>12</cp:revision>
  <dc:subject/>
  <dc:title>7.02  Bathrooms</dc:title>
</cp:coreProperties>
</file>